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FC7-342A-4B42-9AAE-32954005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5B2-CE01-41C5-8315-623FA2BB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1D6-9D9B-47BD-A022-C361D22E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83E-2DA1-4C78-A404-2A332F47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A4F1-5F7A-4F09-890F-6F6429F1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64DA-7C27-4B7F-A7EF-BE205CB3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FFC5-6AD8-441A-BBC3-2DFA8C35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B618-D4C5-43E9-83EF-0E0C3816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BCC1-AD67-4B4F-BD55-539BE63B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09DD-BDDD-4EB0-88B7-C496821E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05D8-E6EB-4389-8F60-F1054A2D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5E3-8FDE-4D6A-A883-A87E0584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6E1E-F465-45BD-89BB-9813A725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32A3-4CD4-4A5E-B63C-18FDBADC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3DE7-C719-47B5-96B7-C669049D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F437-C271-4203-B1D7-10489392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DEA3-CBD3-45AC-96B7-3A91BF98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EA97-1D5F-400B-B4D0-FE92AFF2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612-6A5F-4BD5-A535-4C2DE5C0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792-421D-4E7E-8782-773E8634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9B3-509F-4556-885B-E4586744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3F8-1DCC-4CB7-9791-8CA8D003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59F-438E-46BC-9594-07234F7C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582-328F-4D65-A832-887EF0CF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0725-A8C1-4E79-939B-07B23B0CE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C792-12D7-4639-B2D0-5A2F70F50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La Rutin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Jake Le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spert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uchacho se despierta temprano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levanta ensegu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6958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ma una duch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5105160"/>
            <a:ext cx="8007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uchacho toma una ducha, el muchacho se lava el pe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581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navaj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5029200"/>
            <a:ext cx="800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uchacho se afeita, se afeita con al nava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epill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8007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uchacho se cepilla los di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4952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in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5105160"/>
            <a:ext cx="8007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uchacho se peina. Se mira en el espejo cuando se pe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562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nerse la rop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4876560"/>
            <a:ext cx="8007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se pone la rop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048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sayun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4952520"/>
            <a:ext cx="8007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uchacho se sienta a la mesa. Toma el desayuna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ost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4571640"/>
            <a:ext cx="8007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la noche, el se duerme ensegu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47815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3:46:46Z</dcterms:created>
  <dc:creator>learyjoh</dc:creator>
  <dc:description/>
  <dc:language>en-US</dc:language>
  <cp:lastModifiedBy>learyjoh</cp:lastModifiedBy>
  <dcterms:modified xsi:type="dcterms:W3CDTF">2012-04-05T13:28:24Z</dcterms:modified>
  <cp:revision>4</cp:revision>
  <dc:subject/>
  <dc:title>Slide 1</dc:title>
</cp:coreProperties>
</file>